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959-F601-4FCC-A14A-3394C937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F49-AB89-4874-BBE1-3A21715F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C7A-AC3F-4E1C-96BD-9E21FC8F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734-26B4-4614-9DC1-35F8AD40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EA0E-6F18-45C7-97B8-027AFAEB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00A2-12F1-46D0-9770-A8F31D0E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A3FB-A95C-4FC5-9315-472F40F4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77F7-7720-4680-BA1D-85BD4011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8D9E-B2C1-49EE-B8F4-FF960634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8009-9D1B-438C-819C-EBC9F139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52E8-716B-4FAF-A284-24D77805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98C-3932-41C1-B786-EE2B440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D512-53E6-435A-9809-DC3BA9BE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A9BB-3FC9-440F-952A-4F9EEBA2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5A15-0B9D-47A9-8715-0218B51D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7CFE-7121-4A07-86D5-013B0B27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ECA5-3586-411C-96C3-383221A8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377-D27E-4612-B7EC-3C71B14C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E4E-28EC-42A0-A01C-F1E4235F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423-C248-4C4B-8AEF-D099080F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6D7-A65C-47DD-94DD-583C227F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101-4876-47A2-94F1-7F250CA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106-BA4C-42E4-9279-91C019C4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C93-6DAC-4926-BCCA-1F13B18F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773B-5886-40A3-AF11-91E1FFCB1B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BB9C-4247-4E3C-BDBF-D6FF008BAD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614988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проекта: Игамбердиева Татья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57120" y="1143000"/>
            <a:ext cx="83581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ла рядом с нам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873"/>
                </a:solidFill>
                <a:latin typeface="Times New Roman"/>
              </a:rPr>
              <a:t>Основополагающий во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9280" y="1628640"/>
            <a:ext cx="89647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642960" y="17859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ую роль играют числа в нашей повседнев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714240" y="3071880"/>
            <a:ext cx="60724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873"/>
                </a:solidFill>
                <a:latin typeface="Times New Roman"/>
              </a:rPr>
              <a:t>Проблемные вопросы учебной       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Какие существуют причины возникновения чисел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d4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цифр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ова  роль числа в науке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j0338122"/>
          <p:cNvPicPr/>
          <p:nvPr/>
        </p:nvPicPr>
        <p:blipFill>
          <a:blip r:embed="rId1"/>
          <a:stretch/>
        </p:blipFill>
        <p:spPr>
          <a:xfrm>
            <a:off x="285840" y="142920"/>
            <a:ext cx="15001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873"/>
                </a:solidFill>
                <a:latin typeface="Times New Roman"/>
              </a:rPr>
              <a:t>Учебные вопросы</a:t>
            </a:r>
            <a:r>
              <a:rPr b="0" lang="en-US" sz="3600" spc="-1" strike="noStrike">
                <a:solidFill>
                  <a:srgbClr val="00487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 считали в древност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ие существуют разновидности чисе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апись числа – какая он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ими  свойствами обладают числ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му нужны большие числа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  измерить расстояние до звёзд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0438759"/>
          <p:cNvPicPr/>
          <p:nvPr/>
        </p:nvPicPr>
        <p:blipFill>
          <a:blip r:embed="rId1"/>
          <a:stretch/>
        </p:blipFill>
        <p:spPr>
          <a:xfrm>
            <a:off x="6929280" y="500040"/>
            <a:ext cx="1481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ИСТОР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уществуют причины возникновения чисел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считали в древност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уществуют разновидности чисел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im5"/>
          <p:cNvPicPr/>
          <p:nvPr/>
        </p:nvPicPr>
        <p:blipFill>
          <a:blip r:embed="rId1"/>
          <a:stretch/>
        </p:blipFill>
        <p:spPr>
          <a:xfrm>
            <a:off x="6516720" y="692280"/>
            <a:ext cx="19051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ЗНАТ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цифр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ись числа – какая он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ми  свойствами обладают числ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8390c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znaki"/>
          <p:cNvPicPr/>
          <p:nvPr/>
        </p:nvPicPr>
        <p:blipFill>
          <a:blip r:embed="rId1"/>
          <a:stretch/>
        </p:blipFill>
        <p:spPr>
          <a:xfrm>
            <a:off x="6659640" y="6922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ВСЕЗНАЙ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 роль числа в науке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у нужны большие числа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 измерить расстояние до звёзд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d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im7"/>
          <p:cNvPicPr/>
          <p:nvPr/>
        </p:nvPicPr>
        <p:blipFill>
          <a:blip r:embed="rId1"/>
          <a:stretch/>
        </p:blipFill>
        <p:spPr>
          <a:xfrm>
            <a:off x="6732720" y="549360"/>
            <a:ext cx="1904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Дидактические ц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981080"/>
            <a:ext cx="7715160" cy="43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завершения проекта учащиеся смогут: осознать, что развитие понятия числа, обусловлено потребностями практики; ознакомиться с историческими сведениями о возникновении и развитии чисел; на примере десятичной системы счисления и римской нумерации получить представление о позиционной и непозиционной системах записи чис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150336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Что нам предстоит сдел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ыскать информ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ю, полученную в ходе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презентацию, буклет, и кроссвор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j0088980"/>
          <p:cNvPicPr/>
          <p:nvPr/>
        </p:nvPicPr>
        <p:blipFill>
          <a:blip r:embed="rId1"/>
          <a:stretch/>
        </p:blipFill>
        <p:spPr>
          <a:xfrm>
            <a:off x="7885080" y="333360"/>
            <a:ext cx="10065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d4"/>
                </a:solidFill>
                <a:latin typeface="Arial"/>
              </a:rPr>
              <a:t>Желаю удачи!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bd07218_"/>
          <p:cNvPicPr/>
          <p:nvPr/>
        </p:nvPicPr>
        <p:blipFill>
          <a:blip r:embed="rId1"/>
          <a:stretch/>
        </p:blipFill>
        <p:spPr>
          <a:xfrm>
            <a:off x="3714840" y="3214800"/>
            <a:ext cx="20811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2:58:40Z</dcterms:created>
  <dc:creator>Student</dc:creator>
  <dc:description/>
  <cp:keywords/>
  <dc:language>en-US</dc:language>
  <cp:lastModifiedBy>ЗВЕЗДА</cp:lastModifiedBy>
  <dcterms:modified xsi:type="dcterms:W3CDTF">2010-05-06T16:51:51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